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D278-0643-499F-9583-C3E8B90997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at unsafe sex is so prevalent in South Afric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women in South Africa feel they must have sex when as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 government do to change these statis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do not die from AIDS, they die because their bodies cannot fight off infections from other disease-causing organ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494D-809C-4DF8-A746-487D5354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B02-5459-40B5-8F14-06196BCE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6C7-C1A9-4D45-B9CC-923A99BD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84E-4379-40BD-AF07-7E0593D7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82F-3472-4FC8-A32F-130D641B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7A0-6F0E-48F6-AD31-29F266DB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88E-7A5D-4D50-8D20-AD024692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CC36-8CD9-4A28-B1F1-AF772286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154-1DB4-4080-8DDF-9CF4B967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ED4-67AD-4830-9381-DE1B80C7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B5D-B2C9-46A7-8CC4-C302E050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91E-5D53-4545-9430-EF465244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7D60-4464-4822-8BBA-9A23D97A1A9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57680" y="1752480"/>
            <a:ext cx="3429000" cy="335304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2"/>
          <a:stretch/>
        </p:blipFill>
        <p:spPr>
          <a:xfrm>
            <a:off x="689040" y="235908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aids_by_age"/>
          <p:cNvPicPr/>
          <p:nvPr/>
        </p:nvPicPr>
        <p:blipFill>
          <a:blip r:embed="rId1"/>
          <a:stretch/>
        </p:blipFill>
        <p:spPr>
          <a:xfrm>
            <a:off x="2411280" y="3390840"/>
            <a:ext cx="4430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0" descr="2"/>
          <p:cNvPicPr/>
          <p:nvPr/>
        </p:nvPicPr>
        <p:blipFill>
          <a:blip r:embed="rId1"/>
          <a:srcRect l="0" t="0" r="0" b="10506"/>
          <a:stretch/>
        </p:blipFill>
        <p:spPr>
          <a:xfrm>
            <a:off x="1763640" y="1509840"/>
            <a:ext cx="5975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4"/>
          <p:cNvPicPr/>
          <p:nvPr/>
        </p:nvPicPr>
        <p:blipFill>
          <a:blip r:embed="rId1"/>
          <a:srcRect l="0" t="0" r="0" b="17221"/>
          <a:stretch/>
        </p:blipFill>
        <p:spPr>
          <a:xfrm>
            <a:off x="2195640" y="2467080"/>
            <a:ext cx="53053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5"/>
          <p:cNvPicPr/>
          <p:nvPr/>
        </p:nvPicPr>
        <p:blipFill>
          <a:blip r:embed="rId1"/>
          <a:srcRect l="0" t="0" r="0" b="9284"/>
          <a:stretch/>
        </p:blipFill>
        <p:spPr>
          <a:xfrm>
            <a:off x="179280" y="1413000"/>
            <a:ext cx="5832720" cy="52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940360" y="1628640"/>
            <a:ext cx="3203640" cy="71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that unsafe sex is so prevalent in South Afr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women in South Africa feel they must have sex when ask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at could the government do to change these statist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6"/>
          <p:cNvPicPr/>
          <p:nvPr/>
        </p:nvPicPr>
        <p:blipFill>
          <a:blip r:embed="rId1"/>
          <a:srcRect l="0" t="0" r="0" b="17221"/>
          <a:stretch/>
        </p:blipFill>
        <p:spPr>
          <a:xfrm>
            <a:off x="1332000" y="1197000"/>
            <a:ext cx="669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21528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I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man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od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ru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ID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to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e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D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yndrome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57120" y="27860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is the name given to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affects your immune system (the way your body fights illness and inf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stops your immune system from working properly so that your body can no longer defend itself. This is A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58920" y="2773440"/>
            <a:ext cx="6572160" cy="2600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668840" y="4799160"/>
            <a:ext cx="314316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42960" y="55087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fluenza (flu), Polio, Small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79280" y="1117440"/>
            <a:ext cx="7643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ruses are mic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consist of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NA or RNA (which hold the information about the virus, like your D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protein coat (to protect the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7120" y="1500120"/>
            <a:ext cx="835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A virus is a parasite which cannot reproduce on its ow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needs another living thing to surv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infects the cells of your body and ‘hijacks’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dsorption &amp; Entr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Your cells stop doing what they’re supposed to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nstead make copies of th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plication &amp; Assembl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The new viruses are released and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on to infect oth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leas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6227640" y="1081080"/>
            <a:ext cx="2332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ople do not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di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rom AIDS, they die because their bodies cannot fight off infections from other disease-causing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AIDS_Map_Adults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aids_africa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31:29Z</dcterms:created>
  <dc:creator>Philip Robinson</dc:creator>
  <dc:description/>
  <dc:language>en-US</dc:language>
  <cp:lastModifiedBy>RomaK</cp:lastModifiedBy>
  <dcterms:modified xsi:type="dcterms:W3CDTF">2015-09-04T12:21:32Z</dcterms:modified>
  <cp:revision>11</cp:revision>
  <dc:subject/>
  <dc:title>HIV and AIDS</dc:title>
</cp:coreProperties>
</file>